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D42-40C7-4B29-A8B1-5F8939A84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1C2-575D-4CF8-912F-F94C1205A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C6C2-8D91-4610-ADE1-DBF3ACCAA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DC07-46FE-47A3-913E-7EEFC5632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2D45-5427-4C53-8CAB-BB50C84AB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D24-0F9E-45A7-A9C7-66B0CD0BB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3EB-BB2E-4B07-B688-60742AED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4FA-3EE7-47CF-8DC0-AEB7E15C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A554-F166-4ADF-B1CF-35D9D43F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58B-C457-4904-85E3-7365B4CF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6465-2EC5-4947-9668-E34038BE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8F8-7140-49CB-84DE-1F4D810D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7A5-D1F7-499F-9543-BEF9EA2D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7C7-32D6-47D6-9372-971E0A3D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D35-DFC6-410E-BE6B-74E6BDB7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F51-CD76-48D6-B8DC-1C6EF83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5FA-EA5A-4966-9305-B02D555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F00-7125-4BCD-A84E-9213099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C4C8-777E-4672-98CB-345BBC4EB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63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bро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10bрог"/>
          <p:cNvPicPr/>
          <p:nvPr/>
        </p:nvPicPr>
        <p:blipFill>
          <a:blip r:embed="rId2"/>
          <a:stretch/>
        </p:blipFill>
        <p:spPr>
          <a:xfrm>
            <a:off x="0" y="-2998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28800" y="0"/>
            <a:ext cx="8358120" cy="3603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>
            <a:hlinkClick r:id="" action="ppaction://hlinkshowjump?jump=endshow"/>
          </p:cNvPr>
          <p:cNvSpPr/>
          <p:nvPr/>
        </p:nvSpPr>
        <p:spPr>
          <a:xfrm>
            <a:off x="0" y="-243000"/>
            <a:ext cx="826920" cy="827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1908000" y="2133720"/>
            <a:ext cx="5616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ядок действий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 угрозе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ррористического акта.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28400" y="214200"/>
            <a:ext cx="8358120" cy="16430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ts val="4399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imes New Roman"/>
              </a:rPr>
              <a:t>Общественная опасность террориз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8358120" cy="453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 rot="20781000">
            <a:off x="-181080" y="194760"/>
            <a:ext cx="8885520" cy="3665520"/>
          </a:xfrm>
          <a:prstGeom prst="irregularSeal1">
            <a:avLst/>
          </a:prstGeom>
          <a:gradFill rotWithShape="0">
            <a:gsLst>
              <a:gs pos="0">
                <a:srgbClr val="ffff8d">
                  <a:alpha val="82352"/>
                </a:srgbClr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ный интерес посторонних лиц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хническому состоянию, планировке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бъекта), его коммуникациям и о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5920"/>
            <a:ext cx="9144000" cy="7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ХАРАКТЕРНЫЕ ПРИЗНАКИ ПОДГО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ТЕРРОРИСТИЧЕСКИ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 rot="720600">
            <a:off x="1290600" y="2126880"/>
            <a:ext cx="8537760" cy="3962520"/>
          </a:xfrm>
          <a:prstGeom prst="irregularSeal1">
            <a:avLst/>
          </a:prstGeom>
          <a:gradFill rotWithShape="0">
            <a:gsLst>
              <a:gs pos="0">
                <a:srgbClr val="881b00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Активные попытки посторонних 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проникнуть в место рас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газотрубопроводов, подвальные помещ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в здания (на объек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 rot="16210200">
            <a:off x="2086560" y="1141920"/>
            <a:ext cx="2516400" cy="8921880"/>
          </a:xfrm>
          <a:prstGeom prst="irregularSeal1">
            <a:avLst/>
          </a:prstGeom>
          <a:gradFill rotWithShape="0">
            <a:gsLst>
              <a:gs pos="0">
                <a:srgbClr val="00cc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арковка возле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загруженных автомоб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а длитель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ВУ"/>
          <p:cNvPicPr/>
          <p:nvPr/>
        </p:nvPicPr>
        <p:blipFill>
          <a:blip r:embed="rId2"/>
          <a:stretch/>
        </p:blipFill>
        <p:spPr>
          <a:xfrm>
            <a:off x="4267080" y="2708280"/>
            <a:ext cx="4876920" cy="2417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077320" cy="914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ffff8d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ЗНАКИ,  КОТОРЫЕ МОГУТ УКАЗЫВАТЬ НА НАЛИЧИЕ ВЗРЫВНОГО УСТРО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-108000" y="2738520"/>
            <a:ext cx="6095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АЛИЧИЕ НА ОБНАРУЖЕННОМ ПРЕДМЕТЕ ПРОВОДОВ, ИЗОЛЕНТЫ, ВЕРЕ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76720" y="4005360"/>
            <a:ext cx="487656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ДОЗРИТЕЛЬНЫЕ ЗВУКИ (ЩЕЛЧКИ, ТИКАНЬЕ ЧАСОВ И Т.П.) ИЗДАВАЕМЫЕ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79280" y="5661000"/>
            <a:ext cx="6629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 ПРЕДМЕТА ИСХОДИТ  НЕОБЫЧНЫЙ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332000" y="1341360"/>
            <a:ext cx="645480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БНАРУЖЕНИЕ  ПРЕДМЕТОВ ДОМАШНЕГО ОБИХОДА (ЧАЩЕ ДОРОГОСТОЯЩИХ), ЯКОБЫ УТЕРЯННЫХ ИЛИ ЗАБЫТ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7"/>
          <p:cNvSpPr/>
          <p:nvPr/>
        </p:nvSpPr>
        <p:spPr>
          <a:xfrm>
            <a:off x="214200" y="260280"/>
            <a:ext cx="8715600" cy="977040"/>
          </a:xfrm>
          <a:prstGeom prst="rect">
            <a:avLst/>
          </a:prstGeom>
          <a:solidFill>
            <a:srgbClr val="c00000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0" bIns="36000" anchor="t">
            <a:spAutoFit/>
          </a:bodyPr>
          <a:p>
            <a:pPr algn="ctr"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МЕРОПРИЯТИЯ СМЯГЧЕНИЯ ПОСЛЕД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возможных террористических а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 применением средств массового по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14200" y="1357200"/>
            <a:ext cx="8715600" cy="5357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обучение населе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обенностям действий в случае применения террористами опасных радиоактивных, химических и биологических вещ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осуществление физической защит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чески важных элементов потенциально опасных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своевременное оповещ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селения и соответствующих органов управления об угрозе или совершении террористической 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обеспечени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населения </a:t>
            </a: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СИЗ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планирование мероприяти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эвак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планирование действий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ил и средств ГО и РСЧ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6040" y="115920"/>
            <a:ext cx="8229600" cy="851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4f93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 Black"/>
              </a:rPr>
              <a:t>МЕРЫ ПРЕДУПРЕДИТЕЛЬНОГО ХАРАКТЕРА  ПРИ УГРОЗЕ ТЕРРОРИСТИЧЕСКИХ 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08000" y="1179360"/>
            <a:ext cx="8839080" cy="50821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4f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жесточение пропускного режима на территорию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жедневные осмотры объекта и обходы территории с целью выявления ВУ и подозрительн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иодическая комиссионная проверка складских поме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ее тщательный подбор и проверка ка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ганизация и проведение совместно с сотрудниками правоохранительных органов инструктажей и прак-тических занятий по предупреждению террористических актов и действиям при их угро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 заключении договоров аренды включать пункт, дающие право администрации проверять сдаваемые помещения по своему усмотр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ДЕЙСТВИЯ  ДОЛЖНОСТНЫХ ЛИЦ ПРИ ПОЛУЧЕНИИ ИНФОРМАЦИИ ОБ УГРОЗЕ ВЗРЫВА ИЛИ ОБНАРУЖЕНИИ 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961640"/>
            <a:ext cx="8686800" cy="44197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Немедленно сообщить об обнаружении подозри-тельного предмета правоохранительным орган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Удалить сотрудников на безопасное расстояние (при необходимости приступить к эвакуаци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Обеспечить возможность подъезда к месту обнаружения ВУ машин МВД, ФСБ, «СКОРОЙ ПОМОЩИ», ПОЖАРНОЙ СЛУЖБЫ, МЧ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Обеспечить присутствие лиц, обнаруживших ВУ,  зафиксировать их установочные дан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Во всех случаях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Arial Cyr"/>
              </a:rPr>
              <a:t>НЕ ПРИБЛИЖАТЬСЯ</a:t>
            </a: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, НЕ ТРОГАТЬ, НЕ ПЕРЕМЕЩАТЬ и НЕ ВСКРЫВАТЬ наход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8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8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966960" y="1484280"/>
            <a:ext cx="8142120" cy="3007440"/>
          </a:xfrm>
          <a:prstGeom prst="roundRect">
            <a:avLst>
              <a:gd name="adj" fmla="val 16667"/>
            </a:avLst>
          </a:prstGeom>
          <a:solidFill>
            <a:srgbClr val="ff66cc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Если Вы обнаружили предм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который по Вашему м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не должен наход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«в этом месте и в это время»,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не оставляйте этот фа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без внимания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76360" y="1752480"/>
            <a:ext cx="8296200" cy="3353040"/>
          </a:xfrm>
          <a:prstGeom prst="roundRect">
            <a:avLst>
              <a:gd name="adj" fmla="val 16667"/>
            </a:avLst>
          </a:prstGeom>
          <a:solidFill>
            <a:srgbClr val="99cc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Бесхозная или забытая ве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обнаружена Вами в транспор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опросите находящихся рядом людей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если хозяин не установл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НЕМЕДЛ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сообщите водителю (машинисту)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52360" y="2060640"/>
            <a:ext cx="8325000" cy="3352680"/>
          </a:xfrm>
          <a:prstGeom prst="roundRect">
            <a:avLst>
              <a:gd name="adj" fmla="val 16667"/>
            </a:avLst>
          </a:prstGeom>
          <a:solidFill>
            <a:srgbClr val="aedeb6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Подозрительный предмет обнар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в подъезде Вашего д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Опросите соседей, 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он принадлежит 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Если владелец не установле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НЕМЕДЛ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Black"/>
              </a:rPr>
              <a:t>сообщите в отделение милиции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4920" y="2421000"/>
            <a:ext cx="8237520" cy="3352680"/>
          </a:xfrm>
          <a:prstGeom prst="roundRect">
            <a:avLst>
              <a:gd name="adj" fmla="val 16667"/>
            </a:avLst>
          </a:prstGeom>
          <a:solidFill>
            <a:srgbClr val="66ff3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Если подозрительный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обнаружен в учрежден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МЕДЛ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сообщите о нахо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администрации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295280" y="258840"/>
            <a:ext cx="6516720" cy="122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4f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ДЕЙСТВИЯ НАС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ПРИ ОБНАРУЖ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ПОДОЗРИТЕЛЬНОГО ПРЕДМ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214200" y="260280"/>
            <a:ext cx="8715600" cy="906120"/>
          </a:xfrm>
          <a:prstGeom prst="rect">
            <a:avLst/>
          </a:prstGeom>
          <a:solidFill>
            <a:srgbClr val="0000cc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0" bIns="360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Получение информации о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угрозе террористическ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214200" y="1357200"/>
            <a:ext cx="8715600" cy="5357880"/>
          </a:xfrm>
          <a:prstGeom prst="rect">
            <a:avLst/>
          </a:prstGeom>
          <a:solidFill>
            <a:srgbClr val="7030a0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Сообщение об угрозе террористического акта может поступать несколькими способ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по телефону (чаще всег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через третьих ли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письмен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в записанном на плёнку ви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- другим спосо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При получении информации об угрозе террористического акта по телефо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00"/>
                </a:solidFill>
                <a:uFillTx/>
                <a:latin typeface="Arial"/>
              </a:rPr>
              <a:t>ни в коем случае не бросайте трубку!</a:t>
            </a:r>
            <a:r>
              <a:rPr b="0" lang="ru-RU" sz="32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7"/>
          <p:cNvSpPr/>
          <p:nvPr/>
        </p:nvSpPr>
        <p:spPr>
          <a:xfrm>
            <a:off x="214200" y="260280"/>
            <a:ext cx="8715600" cy="906120"/>
          </a:xfrm>
          <a:prstGeom prst="rect">
            <a:avLst/>
          </a:prstGeom>
          <a:solidFill>
            <a:srgbClr val="0000cc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0" bIns="360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Порядок действий должностных ли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ГО и РСЧС, дежурно-диспетчерских служ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214200" y="1357200"/>
            <a:ext cx="8715600" cy="5357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дьте спокойны, вежливы, не прерывайте говорящего, не вешайте трубку по окончании разгов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Спокойное реагирование при принятии сообщения об угрозе террористического акта позволит получить от террориста дополнительную информацию о месте закладки взрывного устройства, силе заряда, взрывном механиз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Человек, сообщающий об угрозе террористического акта, является лучшим источником информации об этом взрывном устро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"/>
          <p:cNvSpPr/>
          <p:nvPr/>
        </p:nvSpPr>
        <p:spPr>
          <a:xfrm>
            <a:off x="214200" y="1357200"/>
            <a:ext cx="8715600" cy="5357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Способы ведения перегов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ffff"/>
                </a:solidFill>
                <a:latin typeface="Arial"/>
              </a:rPr>
              <a:t>старайтесь удержать злоумышленника на линии 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как можно дольше, по возможности запишите на магнитофон полностью его сообщ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ffff"/>
                </a:solidFill>
                <a:latin typeface="Arial"/>
              </a:rPr>
              <a:t>сообщите ему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, что в здании, куда заложена бомба, находится много людей и её взрыв может привести к многочисленным жертвам невинных люд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ffff"/>
                </a:solidFill>
                <a:latin typeface="Arial"/>
              </a:rPr>
              <a:t>особое внимание 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уделяйте при телефонном разговоре </a:t>
            </a:r>
            <a:r>
              <a:rPr b="1" lang="ru-RU" sz="2600" spc="-1" strike="noStrike">
                <a:solidFill>
                  <a:srgbClr val="66ffff"/>
                </a:solidFill>
                <a:latin typeface="Arial"/>
              </a:rPr>
              <a:t>фоновым шумам, </a:t>
            </a: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например звуку проезжающих автомашин, музыке или любым другим звукам, которые могли бы помочь определить место откуда был сделан звонок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4200" y="260280"/>
            <a:ext cx="8715600" cy="906120"/>
          </a:xfrm>
          <a:prstGeom prst="rect">
            <a:avLst/>
          </a:prstGeom>
          <a:solidFill>
            <a:srgbClr val="0000cc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0" bIns="360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Порядок действий должностных ли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ГО и РСЧС, дежурно-диспетчерских служ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Gl-terror"/>
          <p:cNvPicPr/>
          <p:nvPr/>
        </p:nvPicPr>
        <p:blipFill>
          <a:blip r:embed="rId2"/>
          <a:stretch/>
        </p:blipFill>
        <p:spPr>
          <a:xfrm rot="21150600">
            <a:off x="0" y="0"/>
            <a:ext cx="9433080" cy="50403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"/>
          <p:cNvSpPr/>
          <p:nvPr/>
        </p:nvSpPr>
        <p:spPr>
          <a:xfrm>
            <a:off x="214200" y="1357200"/>
            <a:ext cx="8715600" cy="5357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 algn="just">
              <a:lnSpc>
                <a:spcPts val="27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Способы ведения перегов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внимательно вслушивайтесь в оттенки голоса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вонящего (женский, мужской, детский), его тон (спокойный, возбуждённый), акцент, речевые особен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при имеющейся возможности по другому аппарату свяжитесь с дежурной частью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оррайоргана с целью выяснения, откуда поступил зво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14200" y="260280"/>
            <a:ext cx="8715600" cy="906120"/>
          </a:xfrm>
          <a:prstGeom prst="rect">
            <a:avLst/>
          </a:prstGeom>
          <a:solidFill>
            <a:srgbClr val="0000cc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0" bIns="360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Порядок действий должностных ли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ГО и РСЧС, дежурно-диспетчерских служ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0001m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2685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50920" y="1341360"/>
            <a:ext cx="8651880" cy="131364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3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03"/>
                </a:solidFill>
                <a:latin typeface="Arial Cyr"/>
              </a:rPr>
              <a:t>- Не ведите себя вызывающе,  молча переносите лишения, оскорбления и унижения, не смотрите в глаза преступник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3"/>
                </a:solidFill>
                <a:latin typeface="Arial Cyr"/>
              </a:rPr>
              <a:t>-Выполняйте требования преступников, не спорьте с ними, не рискуйте своей   жизнью и жизнями окружающ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4581360"/>
            <a:ext cx="9144000" cy="2289240"/>
          </a:xfrm>
          <a:prstGeom prst="rect">
            <a:avLst/>
          </a:prstGeom>
          <a:solidFill>
            <a:srgbClr val="ffff03"/>
          </a:solidFill>
          <a:ln w="9360">
            <a:solidFill>
              <a:srgbClr val="8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8d"/>
                </a:solidFill>
                <a:latin typeface="Arial Cyr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Arial Cyr"/>
              </a:rPr>
              <a:t>Помните</a:t>
            </a:r>
            <a:r>
              <a:rPr b="1" lang="ru-RU" sz="2000" spc="-1" strike="noStrike">
                <a:solidFill>
                  <a:srgbClr val="cc0000"/>
                </a:solidFill>
                <a:latin typeface="Arial Cyr"/>
              </a:rPr>
              <a:t> - спецслужбы уже  действуют и предпримут все не-обходимое для вашего освобожде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 Cyr"/>
              </a:rPr>
              <a:t>- Во время проведения операции по освобождению лежите на полу лицом вниз, закройте голову руками и не двигайтесь, держитесь подальше от  дверей и 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 Cyr"/>
              </a:rPr>
              <a:t>-  Не бегите навстречу сотрудникам спецслужб  - вас могут принять  за преступни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9190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0" y="2708280"/>
            <a:ext cx="9144000" cy="19234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5eb"/>
                </a:solidFill>
                <a:latin typeface="Arial Cyr"/>
              </a:rPr>
              <a:t>-</a:t>
            </a:r>
            <a:r>
              <a:rPr b="1" lang="ru-RU" sz="2000" spc="-1" strike="noStrike">
                <a:solidFill>
                  <a:srgbClr val="ffff8d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4315eb"/>
                </a:solidFill>
                <a:latin typeface="Arial Cyr"/>
              </a:rPr>
              <a:t>На совершение любых действий (встать, попить, сходить в туалет) спрашивайте разрешение, демонстрируйте полную покор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5eb"/>
                </a:solidFill>
                <a:latin typeface="Arial Cyr"/>
              </a:rPr>
              <a:t>-  Если вы ранены,  поменьше двигайтесь – это  сохранит ваш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5eb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4315eb"/>
                </a:solidFill>
                <a:latin typeface="Arial Cyr"/>
              </a:rPr>
              <a:t>- Постарайтесь запомнить приметы преступников, их одежду, темы  разговоров, упоминаемые  имена и клички, манеру разговора и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408720" cy="692280"/>
          </a:xfrm>
          <a:prstGeom prst="rect">
            <a:avLst/>
          </a:prstGeom>
          <a:solidFill>
            <a:srgbClr val="ffff03"/>
          </a:solidFill>
          <a:ln w="0">
            <a:noFill/>
          </a:ln>
          <a:effectLst>
            <a:outerShdw dist="17819" dir="2700000" blurRad="0" rotWithShape="0">
              <a:srgbClr val="defe7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ЗАХВАТ  ЗАЛОЖ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2"/>
          <p:cNvSpPr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аната РГД-5 — не менее 5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Граната Ф-1 — не менее 20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Тротиловая шашка массой 200 г — 45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Arial"/>
              </a:rPr>
              <a:t>Тротиловая шашка массой 400 г — 55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ивная банка 0,33 л — 6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ина МОН-50 — 85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Чемодан (кейс) — 23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Дорожный чемодан — 35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Arial"/>
              </a:rPr>
              <a:t>Автомобиль типа «Жигули» — 46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Автомобиль типа «Волга» — 58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Микроавтобус — 920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узовая автомашина (фургон) — 1240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4200" y="142920"/>
            <a:ext cx="8715600" cy="1169640"/>
          </a:xfrm>
          <a:prstGeom prst="rect">
            <a:avLst/>
          </a:prstGeom>
          <a:solidFill>
            <a:srgbClr val="ccff99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КОМЕНДУЕМЫЕ ЗОНЫ ЭВАКУАЦИИ И ОЦЕ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и обнаружении взрывного устройства или предмета, похожего на взрывное устр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 flipH="1">
            <a:off x="9144000" y="1916280"/>
            <a:ext cx="69840" cy="2286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-139680" y="2867040"/>
            <a:ext cx="69840" cy="272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692360" y="2349360"/>
            <a:ext cx="6013440" cy="1379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 Black"/>
              </a:rPr>
              <a:t>МОСКВА,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 Black"/>
              </a:rPr>
              <a:t>Пушкинская п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погибли       -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пострадали     -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19160" y="6211800"/>
            <a:ext cx="87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 flipV="1">
            <a:off x="108000" y="6859440"/>
            <a:ext cx="9144000" cy="519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5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476360" y="2060640"/>
            <a:ext cx="6300720" cy="2189520"/>
          </a:xfrm>
          <a:prstGeom prst="rect">
            <a:avLst/>
          </a:prstGeom>
          <a:solidFill>
            <a:srgbClr val="ff99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ррористический акт в Туш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 месте трагедии сразу погибло 12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больницы  доставлено 59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547640" y="2205000"/>
            <a:ext cx="6193080" cy="1584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зрыв дома н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‘‘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Каширке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гибло более 1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4437000"/>
            <a:ext cx="9144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хват заложников в ДК ГПЗ метро Дубр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вобождено: более 750 челов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гибло: около 13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0" y="5373720"/>
            <a:ext cx="9144000" cy="719280"/>
          </a:xfrm>
          <a:prstGeom prst="rect">
            <a:avLst/>
          </a:prstGeom>
          <a:solidFill>
            <a:srgbClr val="fff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зрыв в метро между станциями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втозаводская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велецкая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гибло 41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рыв в метро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убянка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арк культуры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. 201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гибло 4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5"/>
          <p:cNvSpPr txBox="1"/>
          <p:nvPr/>
        </p:nvSpPr>
        <p:spPr>
          <a:xfrm rot="575400">
            <a:off x="2266920" y="-316080"/>
            <a:ext cx="48862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2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рористические ак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2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2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г.Москв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2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8786880" y="6400800"/>
            <a:ext cx="3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 flipV="1" rot="10800000">
            <a:off x="-360" y="189000"/>
            <a:ext cx="8815320" cy="16682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едеральный закон РФ от 6 марта 2006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5-ФЗ «О противодействии террориз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4000" y="1628640"/>
            <a:ext cx="849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33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2000160"/>
            <a:ext cx="9144000" cy="35067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Определены правовые и организационные основы борьбы с терроризмом в РФ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Порядок координации деятельности органов на всех уровнях, осуществляющих борьбу с терроризм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d2db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Times New Roman"/>
              </a:rPr>
              <a:t>Права, обязанности и гарантии граждан в связи с осуществлением борьбы с терро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762200" y="1700280"/>
            <a:ext cx="561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Т Е Р Р О Р И З М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11280" y="0"/>
            <a:ext cx="7921440" cy="23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Impact"/>
              </a:rPr>
              <a:t>ФЕДЕРАЛЬНЫЙ ЗАКОН    от6 марта 2006 г. № 35-ФЗ</a:t>
            </a:r>
            <a:r>
              <a:rPr b="0" lang="ru-RU" sz="28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Impact"/>
              </a:rPr>
              <a:t>«</a:t>
            </a: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О ПРОТИВОДЕЙСТВИИ ТЕРРОРИЗМУ</a:t>
            </a:r>
            <a:r>
              <a:rPr b="0" lang="ru-RU" sz="2800" spc="-1" strike="noStrike">
                <a:solidFill>
                  <a:srgbClr val="ffcc00"/>
                </a:solidFill>
                <a:latin typeface="Impact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Impact"/>
              </a:rPr>
              <a:t>Принят Государственной Думой  26 февраля 2006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2421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efef"/>
                </a:solidFill>
                <a:latin typeface="Arial Black"/>
              </a:rPr>
              <a:t>идеология насилия и практика воздействия</a:t>
            </a:r>
            <a:br>
              <a:rPr sz="2400"/>
            </a:br>
            <a:r>
              <a:rPr b="0" lang="ru-RU" sz="2400" spc="-1" strike="noStrike">
                <a:solidFill>
                  <a:srgbClr val="efefef"/>
                </a:solidFill>
                <a:latin typeface="Arial Black"/>
              </a:rPr>
              <a:t>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efef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ff03"/>
                </a:solidFill>
                <a:latin typeface="Arial Black"/>
              </a:rPr>
              <a:t>Для нагнетания обстановки приме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ff03"/>
                </a:solidFill>
                <a:latin typeface="Arial Black"/>
              </a:rPr>
              <a:t>взрывы, поджоги магазинов , вокзалов, жилых домов, захват заложников, угоны самолет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42920" y="1295280"/>
            <a:ext cx="3705120" cy="8553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ешенность  социаль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.ч. национ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религиозны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181480" y="1295280"/>
            <a:ext cx="3819600" cy="8240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ны и военные конфликты, в рамках которых теракты становятся их составной ча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2920" y="2438280"/>
            <a:ext cx="37051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лоение общества по уровню материального  состояния, культуре и кредит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2920" y="3819600"/>
            <a:ext cx="37051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абость законодательной базы и нежелание правоохранительных органов следовать букве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42920" y="5219640"/>
            <a:ext cx="3705120" cy="131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ествование обществ и организаций (религиозных, сектантских), ведущих борьбу за справедливость своего учения по спасению челове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181480" y="2438280"/>
            <a:ext cx="38196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справедливость решения экономических и финансовых вопросов при разделе гос.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181480" y="3819600"/>
            <a:ext cx="38196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ованная преступность и криминализация ряда государственных и коммерческих струк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181480" y="5219640"/>
            <a:ext cx="38196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няя традиция России решать в первую очередь, политические задачи путем террора (насил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4495680" y="1066680"/>
            <a:ext cx="0" cy="487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449568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4495680" y="1600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5"/>
          <p:cNvSpPr/>
          <p:nvPr/>
        </p:nvSpPr>
        <p:spPr>
          <a:xfrm>
            <a:off x="449568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6"/>
          <p:cNvSpPr/>
          <p:nvPr/>
        </p:nvSpPr>
        <p:spPr>
          <a:xfrm>
            <a:off x="4495680" y="5791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8"/>
          <p:cNvSpPr/>
          <p:nvPr/>
        </p:nvSpPr>
        <p:spPr>
          <a:xfrm flipH="1">
            <a:off x="3809160" y="5791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 flipH="1">
            <a:off x="380916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5"/>
          <p:cNvSpPr/>
          <p:nvPr/>
        </p:nvSpPr>
        <p:spPr>
          <a:xfrm flipH="1">
            <a:off x="380916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6"/>
          <p:cNvSpPr/>
          <p:nvPr/>
        </p:nvSpPr>
        <p:spPr>
          <a:xfrm flipH="1">
            <a:off x="3809160" y="1604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2920" y="260280"/>
            <a:ext cx="8858160" cy="668520"/>
          </a:xfrm>
          <a:prstGeom prst="rect">
            <a:avLst/>
          </a:prstGeom>
          <a:solidFill>
            <a:srgbClr val="c00000"/>
          </a:solidFill>
          <a:ln w="38160">
            <a:solidFill>
              <a:srgbClr val="66ff3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Причины, порождающие рост терро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23"/>
          <p:cNvPicPr/>
          <p:nvPr/>
        </p:nvPicPr>
        <p:blipFill>
          <a:blip r:embed="rId1"/>
          <a:srcRect l="3260" t="3276" r="4714" b="777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71280"/>
            <a:ext cx="569916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Impact"/>
              </a:rPr>
              <a:t>ВИДЫ  ТЕРРОРИЗ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55640" y="907920"/>
            <a:ext cx="8353440" cy="25210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ИТИЧЕСКИ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ции, осуществляемые подпольными группами против государ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ов и высших должност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 времена Великой французской революции террор широко применя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кобинцами для репрессий против своих политических оппон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тех пор понятие «якобинский террор» стало нарицательным, обознач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зованное насилие власти по отношению к политической оппоз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оветской России традиции якобинцев продолжили большевики, котор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явили «красный террор» высшим проявлением классовой борьбы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12720" y="1413000"/>
            <a:ext cx="8353440" cy="2736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НИЧЕСКИ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террору как способу борьбы за государственную не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предоставление широкой автономии иногда прибегают предс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ели этнических меньшин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ции устрашения  осуществляют национально-освобод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ения, ведущие войну с колонизаторами и странами-агрессо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ейшие и наиболее известные организации этого тип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ландская республиканская армия (ИРА), «Исламское дви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тивления», или ХАМАС (Палестина) 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68360" y="1844640"/>
            <a:ext cx="8281800" cy="331308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ЕЛИГИОЗ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Напрямую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связан с этническим терроризмом и очень трудно поня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де заканчивается один и начинается другой.  Но если этнические те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ористы ведут войну за свою историческую территорию, то религио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ые фанатики объявляют врагом все другие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иболышее распространение в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XX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. получил  исламский террор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го идейные лидеры присвоили право выступать от имени «чистого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слама. Свою ненависть к миру они прикрывают зелёным знаме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рока. Основные противники — Запад с его культурой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радици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ый ислам. Для «священной борьбы» используется весь арсе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редств борьбы, ибо  против «неверных» любые методы хоро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4000" y="2349360"/>
            <a:ext cx="8280360" cy="324036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ДИВИДУАЛЬНЫЙ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диночки, идущие на совершение террористического ак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уководствуются самыми разными мотивами — политическ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тнического, религиозного и иного харак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редко истинными заказчиками преступления являются тай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рганизации, которым выгодно, чтобы ответственность за а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еррора легла на од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08000" y="2781360"/>
            <a:ext cx="8280360" cy="34560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МИНАЛЬНЫ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ет чисто экономические причины. Бандиты стремятся запуг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новников, отдельных коммерсантов или даже целые организ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заставить их принять свои требования — выплач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иминальный налог», передать бизнес под контроль той или и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тупной группиров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овые акции устраиваются также против тех представ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сти и закона, которые мешают организованной преступ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ндиты идут на убийства, проводят диверсии на предприяти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аивают взрывы на многолюдных рынках, в ресторанах, каф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рговых центрах.   С целью выкупа захватывают залож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2928960" y="0"/>
            <a:ext cx="321480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ьные     государства или     группа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5286240" y="1285920"/>
            <a:ext cx="38577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лигиозные общества (сообщ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0" y="1285920"/>
            <a:ext cx="30718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рористические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571840" y="5486400"/>
            <a:ext cx="4286160" cy="119124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дельные лица или  сговор группы лиц (организ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15000" y="4343400"/>
            <a:ext cx="34290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тремистские групп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0" y="4343400"/>
            <a:ext cx="3000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минальны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971800" y="220968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00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895480" y="2743200"/>
            <a:ext cx="3429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ОСИТЕ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ТЕРРО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4"/>
          <p:cNvSpPr/>
          <p:nvPr/>
        </p:nvSpPr>
        <p:spPr>
          <a:xfrm>
            <a:off x="6153120" y="2143080"/>
            <a:ext cx="1981080" cy="981000"/>
          </a:xfrm>
          <a:custGeom>
            <a:avLst/>
            <a:gdLst>
              <a:gd name="textAreaLeft" fmla="*/ 0 w 1981080"/>
              <a:gd name="textAreaRight" fmla="*/ 1501920 w 1981080"/>
              <a:gd name="textAreaTop" fmla="*/ 86796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657"/>
                </a:lnTo>
                <a:lnTo>
                  <a:pt x="14484" y="5657"/>
                </a:lnTo>
                <a:lnTo>
                  <a:pt x="14484" y="19108"/>
                </a:lnTo>
                <a:lnTo>
                  <a:pt x="0" y="19108"/>
                </a:lnTo>
                <a:lnTo>
                  <a:pt x="0" y="21600"/>
                </a:lnTo>
                <a:lnTo>
                  <a:pt x="16373" y="21600"/>
                </a:lnTo>
                <a:lnTo>
                  <a:pt x="16373" y="5657"/>
                </a:lnTo>
                <a:lnTo>
                  <a:pt x="21600" y="5657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 flipV="1">
            <a:off x="6172200" y="3276000"/>
            <a:ext cx="1981080" cy="1066680"/>
          </a:xfrm>
          <a:custGeom>
            <a:avLst/>
            <a:gdLst>
              <a:gd name="textAreaLeft" fmla="*/ 0 w 1981080"/>
              <a:gd name="textAreaRight" fmla="*/ 1500120 w 1981080"/>
              <a:gd name="textAreaTop" fmla="*/ 94572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428"/>
                </a:lnTo>
                <a:lnTo>
                  <a:pt x="14502" y="6428"/>
                </a:lnTo>
                <a:lnTo>
                  <a:pt x="14502" y="19153"/>
                </a:lnTo>
                <a:lnTo>
                  <a:pt x="0" y="19153"/>
                </a:lnTo>
                <a:lnTo>
                  <a:pt x="0" y="21600"/>
                </a:lnTo>
                <a:lnTo>
                  <a:pt x="16355" y="21600"/>
                </a:lnTo>
                <a:lnTo>
                  <a:pt x="16355" y="6428"/>
                </a:lnTo>
                <a:lnTo>
                  <a:pt x="21600" y="642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 flipH="1">
            <a:off x="1028160" y="2143080"/>
            <a:ext cx="1981080" cy="981000"/>
          </a:xfrm>
          <a:custGeom>
            <a:avLst/>
            <a:gdLst>
              <a:gd name="textAreaLeft" fmla="*/ -360 w 1981080"/>
              <a:gd name="textAreaRight" fmla="*/ 1503000 w 1981080"/>
              <a:gd name="textAreaTop" fmla="*/ 86616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978"/>
                </a:lnTo>
                <a:lnTo>
                  <a:pt x="14467" y="5978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5978"/>
                </a:lnTo>
                <a:lnTo>
                  <a:pt x="21600" y="597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7"/>
          <p:cNvSpPr/>
          <p:nvPr/>
        </p:nvSpPr>
        <p:spPr>
          <a:xfrm flipH="1" flipV="1">
            <a:off x="990000" y="32760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40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042"/>
                </a:lnTo>
                <a:lnTo>
                  <a:pt x="14467" y="6042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6042"/>
                </a:lnTo>
                <a:lnTo>
                  <a:pt x="21600" y="604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4419720" y="1219320"/>
            <a:ext cx="380880" cy="990360"/>
          </a:xfrm>
          <a:prstGeom prst="upArrow">
            <a:avLst>
              <a:gd name="adj1" fmla="val 50000"/>
              <a:gd name="adj2" fmla="val 4499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 flipV="1">
            <a:off x="4419720" y="4495680"/>
            <a:ext cx="380880" cy="990720"/>
          </a:xfrm>
          <a:prstGeom prst="upArrow">
            <a:avLst>
              <a:gd name="adj1" fmla="val 50000"/>
              <a:gd name="adj2" fmla="val 6502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42920" y="214200"/>
            <a:ext cx="8858160" cy="1000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99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ВЕРОЯТНЫЕ ОБЪЕКТЫ ТЕРРОР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точники острой опасности, в случае террористической акции, для рабочих, служащих и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2920" y="1428840"/>
            <a:ext cx="3929040" cy="714240"/>
          </a:xfrm>
          <a:prstGeom prst="rect">
            <a:avLst/>
          </a:prstGeom>
          <a:solidFill>
            <a:srgbClr val="00206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Потенциаль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429080" y="1428840"/>
            <a:ext cx="4572000" cy="714240"/>
          </a:xfrm>
          <a:prstGeom prst="rect">
            <a:avLst/>
          </a:prstGeom>
          <a:solidFill>
            <a:srgbClr val="7030a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пасные производствен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2920" y="2356920"/>
            <a:ext cx="3929040" cy="714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Ядерно-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29080" y="2356920"/>
            <a:ext cx="4572000" cy="714600"/>
          </a:xfrm>
          <a:prstGeom prst="rect">
            <a:avLst/>
          </a:prstGeom>
          <a:solidFill>
            <a:srgbClr val="0000cc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Биологически, бактери-ально 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920" y="3285720"/>
            <a:ext cx="3929040" cy="714600"/>
          </a:xfrm>
          <a:prstGeom prst="rect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Радиацион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29080" y="3285720"/>
            <a:ext cx="4572000" cy="714600"/>
          </a:xfrm>
          <a:prstGeom prst="rect">
            <a:avLst/>
          </a:prstGeom>
          <a:solidFill>
            <a:srgbClr val="006666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Гидродинам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2920" y="4214880"/>
            <a:ext cx="3929040" cy="714240"/>
          </a:xfrm>
          <a:prstGeom prst="rect">
            <a:avLst/>
          </a:prstGeom>
          <a:solidFill>
            <a:srgbClr val="333399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Хим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2920" y="5143680"/>
            <a:ext cx="3929040" cy="714240"/>
          </a:xfrm>
          <a:prstGeom prst="rect">
            <a:avLst/>
          </a:prstGeom>
          <a:solidFill>
            <a:srgbClr val="996633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бъекты с массовым пребыванием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429080" y="5143680"/>
            <a:ext cx="4572000" cy="714240"/>
          </a:xfrm>
          <a:prstGeom prst="rect">
            <a:avLst/>
          </a:prstGeom>
          <a:solidFill>
            <a:srgbClr val="990099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бъекты полигенной 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429080" y="4214880"/>
            <a:ext cx="4572000" cy="71424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Взрывопожароопасные объ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920" y="6071760"/>
            <a:ext cx="3929040" cy="428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429080" y="6071760"/>
            <a:ext cx="4572000" cy="428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</a:rPr>
              <a:t>Объекты жизнеобесп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14200" y="214200"/>
            <a:ext cx="8715600" cy="9288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Последствия террористических акц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на потенциально опасных объект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4200" y="1571400"/>
            <a:ext cx="8715600" cy="500040"/>
          </a:xfrm>
          <a:prstGeom prst="rect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Диверсия на крупном химически опасном объе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4200" y="2143080"/>
            <a:ext cx="8715600" cy="12146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ражение 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очага поражения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лощадью 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до 30 км</a:t>
            </a:r>
            <a:r>
              <a:rPr b="1" lang="ru-RU" sz="2400" spc="-1" strike="noStrike" baseline="30000">
                <a:solidFill>
                  <a:srgbClr val="66ffff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, число </a:t>
            </a: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пострадавших - до 60 тыс. чел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личеств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гибших – до 5 тыс.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3786120"/>
            <a:ext cx="8715600" cy="571680"/>
          </a:xfrm>
          <a:prstGeom prst="rect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Диверсии на радиационно-опасном объе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4429080"/>
            <a:ext cx="8715600" cy="16430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заражение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природной среды радионуклидами на площади 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до 1200 км</a:t>
            </a:r>
            <a:r>
              <a:rPr b="1" lang="ru-RU" sz="2400" spc="-1" strike="noStrike" baseline="30000">
                <a:solidFill>
                  <a:srgbClr val="66ffff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личество </a:t>
            </a: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пострадавших - до 10 тыс. ч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0:44:30Z</dcterms:created>
  <dc:creator>Николай Иванович</dc:creator>
  <dc:description/>
  <dc:language>en-US</dc:language>
  <cp:lastModifiedBy>Филиал</cp:lastModifiedBy>
  <dcterms:modified xsi:type="dcterms:W3CDTF">2015-10-07T12:38:18Z</dcterms:modified>
  <cp:revision>43</cp:revision>
  <dc:subject/>
  <dc:title>Слайд 1</dc:title>
</cp:coreProperties>
</file>